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25C-7D62-4116-BB61-B2848A76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C766-D8EB-404F-A274-CAC0E781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7027-EEE1-4F3A-90A7-DE88E5DC7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77E9-9B5C-4321-8ADA-29DEC2F6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48B-F39C-4034-A145-627386D6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665-1E02-4B48-888A-BAA5FF95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E080-4830-431F-9338-E2071132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F63-47C2-4F48-AFCD-4AAB573B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7443-200C-4DCD-825B-91E7E90A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FF46-A2AD-48DE-BEBD-979D04F8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FA1-62CD-4AE5-B52C-80D5AA42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94A-1375-4F48-9D1B-253FC7E9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80D8-9341-4ACE-A235-32C72C0BF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4343400" cy="9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هُوذا قَدْ صارَ لَيْلٌ           مُظلِمٌ نِصْفَ النَّهارْ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Arabic Transparent"/>
              </a:rPr>
              <a:t>والصُّخورُ الصُّمُ شُقَّتْ       فلِماذا ذاكَ صارْ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66"/>
                </a:solidFill>
                <a:latin typeface="Times New Roman"/>
                <a:cs typeface="Times New Roman"/>
              </a:rPr>
              <a:t>ذاقَ ربُ المجدِ مَوتاً         بعدَ صلبٍ واحتقارْ</a:t>
            </a:r>
            <a:r>
              <a:rPr b="0" lang="ar-SA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5351760" cy="7391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8600"/>
            <a:ext cx="3962520" cy="115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أُنظروا كيفََ يَداهُ            سُمِّرَتْ فوقَ الخَشَبْ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ولهُ إكليلُ شَوكٍ              نابَ عنْ تاجِ الذَّهبْ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99"/>
                </a:solidFill>
                <a:latin typeface="Times New Roman"/>
                <a:cs typeface="Times New Roman"/>
              </a:rPr>
              <a:t>آهِ ما أَقسى عُداةً            صَنَعَتْ هذا العَجَب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3581280" cy="117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أُنظروا كيفَ دِماهُ           قطَرَتْ مِنْ جَنبِهِ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واسمعوا صوتَ أَنينٍ           صاعدٍ منْ قلبِهِ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cc99"/>
                </a:solidFill>
                <a:latin typeface="Times New Roman"/>
                <a:cs typeface="Arabic Transparent"/>
              </a:rPr>
              <a:t>يا تُرى ذاكَ لماذا            هلْ لَكُمْ عِلمٌ بِهِ؟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81600" y="0"/>
            <a:ext cx="5162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3657600" cy="9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بِالخطايا قدْ وُلِدنا            مُسْتَحقِّينَ الغَضَبْ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00"/>
                </a:solidFill>
                <a:latin typeface="Times New Roman"/>
                <a:cs typeface="Arabic Transparent"/>
              </a:rPr>
              <a:t>فأتانا وَفدانا                 مِنْ عَذابٍ في اللّهب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ffcc00"/>
                </a:solidFill>
                <a:latin typeface="Times New Roman"/>
                <a:cs typeface="Times New Roman"/>
              </a:rPr>
              <a:t>يا أُلي الآثامِ أَصغُوا          وَاعرِفُوا هذا السَّبَبْ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451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28600"/>
            <a:ext cx="4343400" cy="11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إِرفعوا الأَيْدي وَصَلُّوا        واشْكُرُوا ربَّ الفِدَ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اطلُبُوا عَفواً وَظَلّوا         قائِلينَ سُجّد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قَدْ قَبِلْتَ المَوتَ طَوعاً        مُنِْقذاً أَهلَ الرَّد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9:37:01Z</dcterms:created>
  <dc:creator>SUZANNE.MD</dc:creator>
  <dc:description/>
  <dc:language>en-US</dc:language>
  <cp:lastModifiedBy>HANI SAFI</cp:lastModifiedBy>
  <dcterms:modified xsi:type="dcterms:W3CDTF">2003-04-17T11:11:47Z</dcterms:modified>
  <cp:revision>2</cp:revision>
  <dc:subject/>
  <dc:title>PowerPoint Presentation</dc:title>
</cp:coreProperties>
</file>